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368-CB5A-4505-AADD-C2050F8A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A58-CA34-4DB3-AA00-1A92E35F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B88-5B9F-43F5-B406-39FF9FF2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9D9-F9FC-456B-BCD2-3244765E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C6C4-7077-4090-AAC2-F61CA05E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3C82-F7E6-4F71-B187-430B5E1D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385F-10D4-46A0-9440-153FE808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DAD2-A640-48CA-B75C-B2E39425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8AD0-34E9-471C-A942-AFA30DAF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5956-746E-49B4-A540-26C7FE9C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6939-96BE-4B81-8354-7F9CFAF3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1D1-44EF-4DD2-90EE-9B65E6F0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1D54-7C28-4924-8BE0-B52EFD84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F893-B614-46FB-8EB8-4929BA1E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668E-1474-48DC-A997-1F01D4E5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DA9F-D526-4BFA-97D6-E485CAB6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D752-73C8-4C5D-8863-B3610432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79766-A3CB-4811-86F4-E8151BEB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95D16-0365-4DC0-BB2A-CDDB3FA4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25677-C3B8-4CB3-9BEA-FD42BF3C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6D46C-8250-4A56-B57F-0287C77F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55851-0452-49DD-9D2A-E6E3D032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E83-BFD3-4E55-A33A-29FF01D3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11809-EBD3-40E0-BF67-2561140C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6F654-F07B-4EF9-870C-D241CE0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6099A-157C-4414-A388-E1F5B78C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40750-4D7B-4A37-95E6-EDD42566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EC717-DCAB-4DBD-A2A3-65D22FD0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6C621-5906-444C-B97D-FB35DD81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68428-F1B5-4477-91BF-BEC560B8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9F67-F9AC-4945-9B93-6D266359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615CB-2C59-490D-8E49-DA0F82CF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A2A62-2B68-4BAD-A53B-E3944FAE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984-AF7F-44AF-AC23-3FF8513A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DC55-F0DC-4A36-AAAA-2AD3B021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0F3D-3DE2-4BD0-84F7-8C8FA402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C9649-700F-4C88-916D-6870962B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24331-8912-4F6F-8F05-E8D7A6AC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34586-73F3-43F6-A82D-A3711F37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BF90-5566-46D5-B6F8-7999FD54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92F7-AD1B-47C3-BD2C-1C6744D2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31B88-5B6B-4089-9E70-D62B43FE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0F771-3446-452D-B8D9-AADF832B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3B1-3CA6-442F-A8E0-9FCAABF0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0C5-08C5-40E8-ABE8-053B211E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AE1-3A53-40A6-BAEE-13194EDB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11A-CEC8-4004-946C-71C194D3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7DE-E72E-4A0B-84F7-21FF56D8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C210-A914-41FB-B4C3-D816930F68D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7598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7598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598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F70F-0766-4FC7-8117-C43041822E2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9BC8-BB17-42F9-B784-DB893BDF50B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674E-A772-4A48-89E8-C8C7AC9A6FA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5LZe0dbnk4&amp;feature=related" TargetMode="External"/><Relationship Id="rId2" Type="http://schemas.openxmlformats.org/officeDocument/2006/relationships/hyperlink" Target="http://www.youtube.com/watch?v=eCALWE0DNm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araguay Y Uruguay </a:t>
            </a:r>
            <a:endParaRPr b="0" lang="en-US" sz="44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Georgia"/>
              </a:rPr>
              <a:t>Christine Garr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Media de los Dos Países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agua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Georgia"/>
                <a:hlinkClick r:id="rId1"/>
              </a:rPr>
              <a:t>http://www.youtube.com/watch?v=35LZe0dbnk4&amp;feature=relat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ruguay: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Georgia"/>
                <a:hlinkClick r:id="rId2"/>
              </a:rPr>
              <a:t>http://www.youtube.com/watch?v=eCALWE0DNm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Trebuchet MS"/>
              </a:rPr>
              <a:t>Información Básica-Paraguay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icialmente la República del Paragua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Debido a su localización central en América del Sur, a veces se refiere a como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razón de América del Su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araguay se independizó de España en 1811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n 2009 la población se estimaba en 6,3 millones de persona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as lenguas oficiales son el español y guaraní, ambos se hablan mucho en el país, con alrededor de 92% de la población general habla español y 98% hablan Guaraní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Información Básica-Uruguay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icialmente la República Oriental del Urugu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 el hogar de unos 3,3 millones de person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roximadamente el 88% de la población es de ascendencia europ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ruguay es uno de los países más económicamente desarrollados de América del Su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e el primer país sudamericano en legalizar el matrimonio entre personas del mismo sex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Los Datos Importantes-Paraguay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unción fue fundada el 15 de agosto de 1537, por el explorador español Juan de Salazar Espinos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araguay derrocó a la administración local española el 15 de mayo de 1811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a Guerra del Chaco se peleó con Bolivia en la década de 1930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ntre 1904 y 1954, Paraguay tuvo treinta y uno presidentes, más de los cuales fueron destituidos por la fuerz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n 2010, Paraguay experimentó la mayor expansión económica en América Latina y el segundo más rápido en el mundo, sólo después de Qata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Los Datos Importantes-Uruguay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legada de los españoles en el territorio del actual Uruguay occurrió en 151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 1603, los españoles comenzaron a presentar el ganado, que se hizo una fuente de riqueza en la reg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finales de los años 1950, en parte debido a una disminución mundial en la demanda de productos agrícolas, los uruguayos sufridos de un escarpado pasan al nivel de vida que llevó a la militancia estudiantil y el malestar de trabaj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Trebuchet MS"/>
              </a:rPr>
              <a:t>Eventos Actuales-Paraguay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.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e acuerdo a transparencia internacional, Paraguay se ha convertido en el finalista en América Latina para de la corrupción del Gobiern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as autoridades del Gobierno del país prometieron en 2008 que se produzca el 'cambiar' para los residentes del paí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2.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 diciembre de 2011, las agencias de aire y de viajes en Paraguay informó que los boletos aéreos y viajes alcanzaron récord de venta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demás, todos los vuelos de aire fueron completamente reservados hasta febrero, que fue un acto muy positivo para el paí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Trebuchet MS"/>
              </a:rPr>
              <a:t>Eventos Actuales-Uruguay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te año, el crecimiento del PIB previsto del Uruguay es 4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 Gobierno planea atraer trabajadores calificados extranjeros y no extranj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y 20 mil empleos en el país ahor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to se espera que produzca un crecimiento en la actividad económica del paí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Trebuchet MS"/>
              </a:rPr>
              <a:t>Información Lingüística-Paraguay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Guarini es uno de los principales idiomas que se hablan en América del Sur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Es hablado por casi 5 millones de persona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El idioma es hablado diferente en Paraguay que en otros país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Son algunos ejemplos a continuación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Uno: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eteĩ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Mujer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uñ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Perro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Jagu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Sol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uarah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Agua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Trebuchet MS"/>
              </a:rPr>
              <a:t>Información Lingüística-Uruguay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 idioma nacional/oficial del país es el españ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 idioma inmigrantes incluyen muchos lenguas de Europa, como Catalan, Corsas, Alemán y Rus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alectos del idioma español en el país incluyen Tightlipped, Rioplatense y Lunfard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23:41:10Z</dcterms:created>
  <dc:creator>christine.garry</dc:creator>
  <dc:description/>
  <dc:language>en-US</dc:language>
  <cp:lastModifiedBy>christine.garry</cp:lastModifiedBy>
  <dcterms:modified xsi:type="dcterms:W3CDTF">2012-02-20T21:39:19Z</dcterms:modified>
  <cp:revision>20</cp:revision>
  <dc:subject/>
  <dc:title>Paraguay Y Uruguay</dc:title>
</cp:coreProperties>
</file>